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04F-9957-44E3-B6EC-12A37ABC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B2B-6A10-498A-AB8D-A5BE0F1A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BDF-8CA3-40DE-89B5-1A2C1A76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C3B-2FDD-4855-A52C-FD0714F2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B10-4433-40A4-8BE7-F558DB02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06A-1F94-477B-939C-6352FEF7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43D-C78C-445B-BA9D-93F3C60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A73-8EF7-4805-8011-226DDD91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565-4BE0-45AF-9005-6E446F63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00B-02AF-4AAD-88BB-06630ACB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C9D-E948-456A-AA8A-5CFBB540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3D1-2A9D-422B-955D-030CF981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1175-2CDE-48DB-A752-FE2468E94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ffany_UCCMontclair_Ascension" descr=""/>
          <p:cNvPicPr/>
          <p:nvPr/>
        </p:nvPicPr>
        <p:blipFill>
          <a:blip r:embed="rId1"/>
          <a:stretch/>
        </p:blipFill>
        <p:spPr>
          <a:xfrm>
            <a:off x="0" y="0"/>
            <a:ext cx="4514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37840" y="458640"/>
            <a:ext cx="4888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نّم هللويا ليسوع (×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رنّم هللويا (×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نّم هللويا ليسو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بّح ومجد إسم الرب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ك حياتي يا يس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طلبوا الربَّ تجدو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هو الرب الشافي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03:37Z</dcterms:modified>
  <cp:revision>1</cp:revision>
  <dc:subject/>
  <dc:title>PowerPoint Presentation</dc:title>
</cp:coreProperties>
</file>